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631D-AB70-4C9A-84E4-3E91927CA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0A1B-53E1-4A93-B1B1-2330C07B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E543-0B0E-4818-BF86-1E9115AD5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660D-2486-4D01-BCA6-DE789DB06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D632-1C04-4739-91B3-286854AE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04E3-57E3-4C7E-AB17-2CDBB472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9F29-E7EE-40BF-8A4F-26829883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35C8-16EC-4611-9084-AD4552C4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D991-0099-4577-8588-25CC868F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F24D-8246-4C74-97AA-73021F3F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29B6-34EF-44CF-B8E3-2BC650E5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1B1F-C529-4479-91E2-4FC6B8B6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90A2-0B24-4B75-9AB2-D3A34780F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em720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655344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onn720" descr=""/>
          <p:cNvPicPr/>
          <p:nvPr/>
        </p:nvPicPr>
        <p:blipFill>
          <a:blip r:embed="rId1"/>
          <a:stretch/>
        </p:blipFill>
        <p:spPr>
          <a:xfrm>
            <a:off x="2057400" y="0"/>
            <a:ext cx="26416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3T00:27:21Z</dcterms:created>
  <dc:creator>geoff lyon</dc:creator>
  <dc:description/>
  <dc:language>en-US</dc:language>
  <cp:lastModifiedBy>geoff lyon</cp:lastModifiedBy>
  <dcterms:modified xsi:type="dcterms:W3CDTF">2001-10-13T00:27:54Z</dcterms:modified>
  <cp:revision>1</cp:revision>
  <dc:subject/>
  <dc:title>PowerPoint Presentation</dc:title>
</cp:coreProperties>
</file>